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F6E-54E7-4E41-8C31-F732C2F6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488-D5D2-4258-8EAE-4F56C877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DA9-946A-40CC-AC36-DAADB914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494-B27C-4557-AD26-729F431A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8F4-FED1-4104-888A-7DD9E735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5B9-8A30-4F2A-95FA-D26B4E01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041-92BB-4575-B1B8-FF63EF09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4AF-0058-4468-B7C4-C5F1BD43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0E9-377E-4E81-BFBF-D2221A05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904-7B65-4D1D-BA9D-130D834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DBC-1EBB-4EEF-9009-1FBE5335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998-641C-4662-912A-16EB0B9F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BE3-7D5F-45D4-9044-344DB3EBB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.wigflip.com/a/pcwr67gf/signbot.gif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chigan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flags/michigan/michiganflag.s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30d4"/>
            </a:gs>
            <a:gs pos="50000">
              <a:srgbClr val="d01616"/>
            </a:gs>
            <a:gs pos="100000">
              <a:srgbClr val="2c30d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48769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er Dow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/19/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#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848720" cy="255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Name: Michi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ol: L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:9,938,4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ed the Union: date entered/number entered: January 26,1837: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to :if you seek a pleasant Peninsula, look about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kname: Wolverine state/ Great Lakes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er: Apple Bloss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: Rob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g: Michigan, My Michi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 behind name: Based on Chippewa Indian 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Stone: Petoskey S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tree: White P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st cities: Detroit, Grand Rapids, Warren, Flint, and L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der States: Illinois, Indiana, Wisconsin, and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48769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00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3740040"/>
            <a:ext cx="5105520" cy="311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2209680"/>
            <a:ext cx="5105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’s Guide to U.S Governmen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chigan’s 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3/22/2012, http://bensguide.gpo.gov/3-5/state/michigan.htm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Michigan’s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14600"/>
            <a:ext cx="3809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hanted Learning, Map Of Michigan, 3/22/2012, http://www.enchantedlearning.com/USA/states/michig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lack star is show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igan’s Capi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ll images Copyright © 1997 - 2000 WriteLine. All Rights Reserved. Model A Ford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228600"/>
            <a:ext cx="23623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nry Ford E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Postcards,             3/22/2012 http://www.postcardsfrom.com/t1/98061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Henry Fords E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 Windmill, Holland MI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05720" y="304920"/>
            <a:ext cx="2438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land Michigan, Postcards, 3/22/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postcardsfrom.com/t1/980609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picture of Holland 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0:21Z</dcterms:created>
  <dc:creator>install</dc:creator>
  <dc:description/>
  <dc:language>en-US</dc:language>
  <cp:lastModifiedBy>install</cp:lastModifiedBy>
  <dcterms:modified xsi:type="dcterms:W3CDTF">2012-04-16T13:04:46Z</dcterms:modified>
  <cp:revision>8</cp:revision>
  <dc:subject/>
  <dc:title>Slide 1</dc:title>
</cp:coreProperties>
</file>